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5630D-6F24-4801-A06C-DE12CA15E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6A4F3-B18E-4673-9834-D52675E22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0A715-A3CF-4A20-A5D4-EE8C5AC3C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453DA-F059-40BE-951C-7CC4A6BCC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7B3A-061E-442E-B7CD-0C0FB5639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7785-FA89-4AB2-B4A8-AD05E09E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56EB-CEE3-428E-ABD8-9CA50E52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96A08-4857-4879-93B1-12AB8B686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A1E80-CF20-4D3C-BE12-5F5D53F5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A825-BC88-48F7-888C-651A2B6C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11D26-3876-46DB-B724-4819B0644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1779-DD37-4005-A499-CAB848089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74D9-110B-4B31-B903-3C220B49D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85800"/>
            <a:ext cx="7924680" cy="29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Myths</a:t>
            </a:r>
            <a:r>
              <a:rPr b="0" lang="en-US" sz="6000" spc="-1" strike="noStrike">
                <a:solidFill>
                  <a:srgbClr val="000000"/>
                </a:solidFill>
                <a:latin typeface="Arial"/>
              </a:rPr>
              <a:t> and </a:t>
            </a:r>
            <a:r>
              <a:rPr b="0" lang="en-US" sz="6000" spc="-1" strike="noStrike">
                <a:solidFill>
                  <a:srgbClr val="0000ff"/>
                </a:solidFill>
                <a:latin typeface="Arial"/>
              </a:rPr>
              <a:t>Realities </a:t>
            </a:r>
            <a:r>
              <a:rPr b="0" lang="en-US" sz="6000" spc="-1" strike="noStrike">
                <a:solidFill>
                  <a:srgbClr val="000000"/>
                </a:solidFill>
                <a:latin typeface="Arial"/>
              </a:rPr>
              <a:t>of Immigration</a:t>
            </a:r>
            <a:endParaRPr b="0" lang="en-US" sz="6000" spc="-1" strike="noStrike">
              <a:solidFill>
                <a:srgbClr val="000000"/>
              </a:solidFill>
              <a:latin typeface="Arial"/>
            </a:endParaRPr>
          </a:p>
        </p:txBody>
      </p:sp>
      <p:pic>
        <p:nvPicPr>
          <p:cNvPr id="42" name="" descr=""/>
          <p:cNvPicPr/>
          <p:nvPr/>
        </p:nvPicPr>
        <p:blipFill>
          <a:blip r:embed="rId1"/>
          <a:stretch/>
        </p:blipFill>
        <p:spPr>
          <a:xfrm>
            <a:off x="2133720" y="3352680"/>
            <a:ext cx="502920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ing immigrants financial privileges boosts corporate profits because it enables them to move out of the cash economy, put their money in banks, and take out credit cards, car loans, and home mortgages. U.S. gross national product also surges because consumers with credit can spend more than those limited to cash. (BusinessWee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re undocumented immigrants pay income and property taxes, they help ease the tax burden for others when it comes to paying for schools, health care, roads, and other services immigrants use. (BusinessWeek)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2" name="PlaceHolder 2"/>
          <p:cNvSpPr>
            <a:spLocks noGrp="1"/>
          </p:cNvSpPr>
          <p:nvPr>
            <p:ph/>
          </p:nvPr>
        </p:nvSpPr>
        <p:spPr>
          <a:xfrm>
            <a:off x="457200" y="205740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004, Arizona suffered severe labor shortages and huge quantities of lettuce went unpicked because growers lacked pickers. In 2005, the Central Valley in California had 70,000 to 80,000 labor positions that were unfilled. Legalizing workers would alleviate such labor shortages. (Benjamin Powell, economist at the Independent Institute)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4" name="PlaceHolder 2"/>
          <p:cNvSpPr>
            <a:spLocks noGrp="1"/>
          </p:cNvSpPr>
          <p:nvPr>
            <p:ph/>
          </p:nvPr>
        </p:nvSpPr>
        <p:spPr>
          <a:xfrm>
            <a:off x="609120" y="2057040"/>
            <a:ext cx="80773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immigrants are 25% of workers in the meat and poultry industry, 24% of dishwashers, and 27% of drywall and ceiling tile installers. (The Pew Research Cent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portion of unauthorized workers in the labor force is 4.3%. Employers from many sectors of the US economy employ unauthorized immigrants – including enormous amounts of private US households. (Josiah Heyman of the University of Texas at El Paso)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6" name="PlaceHolder 2"/>
          <p:cNvSpPr>
            <a:spLocks noGrp="1"/>
          </p:cNvSpPr>
          <p:nvPr>
            <p:ph/>
          </p:nvPr>
        </p:nvSpPr>
        <p:spPr>
          <a:xfrm>
            <a:off x="609120" y="2057040"/>
            <a:ext cx="80773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noncitizen workers who arrived during the 1990’s, employment would have declined 35% of all job categories nationwide.  Immigrants accounted for 90% of the net growth in the labor force in the 1990’s in the Chicago area, and 69% of the growth in the state workforce.  Immigrants now make up 14.3% of the Illinois workforce, 26% of the workforce in Chicago, and 18% of the workforce in suburban Chicago.  Mexican immigrants fill half of the area’s blue collar, service, and unskilled positions.  (Crains, 6/16/03)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6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le it has been evident that undocumented immigrants pay a variety of taxes, the extent of their contribution to Social Security is striking; the money added up to about 10 % of last years surplus – the difference between what the system currently receives in payroll taxes and what it doles out in pension benefits.  Moreover, the money paid by undocumented workers and their employers is so important that it is factored into all the SSA’s projections.</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000000"/>
                </a:solidFill>
                <a:latin typeface="Arial"/>
              </a:rPr>
              <a:t>Because states provide most services used by immigrants, they can be net financial losers, while the federal government is typically a net gaine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7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increase unemployment and reduce wages.</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ne with a number of other studies, the Cato Institute found that immigrants do not increase joblessness, even among the lowest-paid workers.  Other studies have found that immigration either has no effect on wage levels, or at worst, a very slight effect on a very small number of the lowest paid jobs in high-immigrant area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is a consensus among business leaders that immigration is vital to maintaining economic growth.  Federal Reserve Chairman Alan Greenspan said recently that immigration is critical to mitigating “inflation pressures.”</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7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ook away the undocumented population, it would be the worst economic disaster in the history of the 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goods and services that the undocumented consume through their paycheck, plus all that they produce for their employers, is close to about $800 billion. </a:t>
            </a:r>
            <a:br>
              <a:rPr sz="1800"/>
            </a:br>
            <a:br>
              <a:rPr sz="1800"/>
            </a:br>
            <a:r>
              <a:rPr b="0" lang="en-US" sz="1800" spc="-1" strike="noStrike">
                <a:solidFill>
                  <a:srgbClr val="000000"/>
                </a:solidFill>
                <a:latin typeface="Arial"/>
              </a:rPr>
              <a:t>The undocumented are a huge consumer base.  90% of the wages that the undocumented population gets are spent inside the U.S. Remittances are sent abroad, but that only represents about 10% of immigrants' income. The numbers are becoming quite huge. Remittances are estimated at about $50 billion per year.  That means that total consumptive capacity remaining in the U.S. is $400 billion to $450 billion.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ul Hinojosa, Business Week Magazine, July 18, 2005)</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4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use more government services than they pay for with their taxes and prove a burden to the American economy.</a:t>
            </a: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80"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mmigrants bring disease and other health-related problems, proving a burden to our health care system.</a:t>
            </a:r>
            <a:endParaRPr b="0" lang="en-US" sz="4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though most immigrants come from countries poorer than the United States, recent immigrants are healthier than their US born population in virtually every particular.</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4"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to Institute found that general health indicators like birth weight and infant mortality are better among babies born to immigrants than to US born mothers</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are not swamping the U.S. health care system and use it far less than native-born Americans.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accounted for 10.4 percent of the U.S. population but only 7.9 percent of total health spending and 8 percent of government health spending.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ty percent of immigrants use no health care at all during the course of a year.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children spent or cost $270 a year, compared to $1,059 for native-born children.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migrants have health insurance. (The American Journal of Public Health)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88"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ality, if more restrictions were placed on health care for immigrants, very little money would be saved, and many immigrant children would be put at grave risk. Many immigrant children already fail to get regular checkups, and as a result, more end up needing emergency care, or get no care at all. (The American Journal of Public Heal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mmigrants actually help to subsidize health care and social security for the rest the country. (Marcelo Suárez-Orozco, co-director of immigration studies at New York Univers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s pay taxes -- including Medicare payroll taxes -- and most pay health insurance premiums, but they receive only half as much care as other families. (The American Journal of Public Heal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MYTH</a:t>
            </a:r>
            <a:endParaRPr b="0" lang="en-US" sz="7200" spc="-1" strike="noStrike">
              <a:solidFill>
                <a:srgbClr val="000000"/>
              </a:solidFill>
              <a:latin typeface="Arial"/>
            </a:endParaRPr>
          </a:p>
        </p:txBody>
      </p:sp>
      <p:sp>
        <p:nvSpPr>
          <p:cNvPr id="90"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of renewed immigration, English will no longer be the linguistic “glue” holding American together and speakers of other languages will seize economic and political power in large regions of the United States, creating disadvantages for English-speaking Americans.</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glish is almost universally accepted by the children and grandchildren of immigrants who have come to the US in great numbers since the 1960’s, which means these children have high levels of linguistic assimilation.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4"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nderlying claim that the past pattern – children and grandchildren of immigrants who rapidly accept English --- may be breaking down has been greatly exaggerated.  The typical American pattern of linguistic assimilation, evident for the descendents of the European immigrants of the late 19</a:t>
            </a:r>
            <a:r>
              <a:rPr b="0" lang="en-US" sz="2800" spc="-1" strike="noStrike" baseline="30000">
                <a:solidFill>
                  <a:srgbClr val="000000"/>
                </a:solidFill>
                <a:latin typeface="Arial"/>
              </a:rPr>
              <a:t>th</a:t>
            </a:r>
            <a:r>
              <a:rPr b="0" lang="en-US" sz="2800" spc="-1" strike="noStrike">
                <a:solidFill>
                  <a:srgbClr val="000000"/>
                </a:solidFill>
                <a:latin typeface="Arial"/>
              </a:rPr>
              <a:t> and 20</a:t>
            </a:r>
            <a:r>
              <a:rPr b="0" lang="en-US" sz="2800" spc="-1" strike="noStrike" baseline="30000">
                <a:solidFill>
                  <a:srgbClr val="000000"/>
                </a:solidFill>
                <a:latin typeface="Arial"/>
              </a:rPr>
              <a:t>th</a:t>
            </a:r>
            <a:r>
              <a:rPr b="0" lang="en-US" sz="2800" spc="-1" strike="noStrike">
                <a:solidFill>
                  <a:srgbClr val="000000"/>
                </a:solidFill>
                <a:latin typeface="Arial"/>
              </a:rPr>
              <a:t> centuries, continues to be the pattern of linguistic assimilation tod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6"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ypical pattern goes that the first, or immigrant, generation typically arrives in the US as young adults and speak their mother tongue, learning English for survival.  Their children, the second generation, are raised in homes where parents and older adults speak their mother tongue to them.  However, they prefer to speak English, not only on the streets and in schools, but even when residing with their parents.  When they are old enough to raise their own families, they speak onlyEnglish with their children, and these children, the third generation, are thus monolingual in English.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98"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important to note that though this pattern did characterize the experiences of many European groups, such as the Italians, it is nevertheless a simplification with notable exceptions.  German groups in the Midwest were successful in maintaining their mother tongue across generations.  Bilingual schools in German and English were prevalent until the outbreak of World War I.  French Canadians in New England used bilingual and French-speaking parochial schools as an anchor for maintaining French, which was widely spoken until the 1950’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4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the National Academy of Sciences found that the average immigrant annual contributes $1,800 more in taxes than he or she receives in benefits.  Over their lifetimes, immigrants and their children will each pay an average $80,000 more in taxes than they will receive in local, state, and federal benefit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100"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vast majority of first-generation immigrants who come to the United States as children speak English wel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lingualism is more common among second-generation children, but almost all are proficient in English</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glish-only is the predominant pattern by the third generation</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 immigration levels in the 1990’s do not appear to have weakened the forces of linguistic assimilation</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10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mong Asian groups, these bilingual minorities are so small that levels of linguistic assimilation are scarcely different from those of the past.  Among Spanish-speaking groups, the bilingual minority is slightly higher than was the case in most European immigrants groups, however this is indicative of a generation of bilingual people who use two languages in their professional and personal lives, rather than indicating a lack of English proficienc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4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benefit the United States economy but their potential remains hindered by current laws. They do not deplete government resources, as is widely believed. (Benjamin Powell, economist at the Independent Institu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add at least $22 billion, in total, to the economy each year, and legalizing their status would increase that amount. (Benjamin Powell, economist at the Independent Institut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 homebuyers are driving the growth of suburban housing markets.  During the 1990’s, homeownerships grew by 135% among Chicago-area Latinos, and by 90% among Chicago-area Asian American (Crain’s, 11/12/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ocumented add at least $22 billion, in total, to the economy each year, and legalizing their status would increase that amount. (Benjamin Powell, economist at the Independent Institut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IN and conventional mortgages taken out by undocumented could be worth as much as $60 billion over the next five years. (National Association of Hispanic Real Estate Professionals) Undocumented immigrants now comprise fully half of all farm laborers, up from 12% in 1990. (US Department of Lab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1986 passage of the Immigration Reform and Control Act, the Social Security Administration began receiving mountains of W-2 earnings reports with incorrect or fake Social Security numbers, and placed them in the "earnings suspense file." Since then, the file has grown, on average, by more than $50 billion a year, generating $6 billion to $7 billion in Social Security tax revenue and about $1.5 billion in Medicare taxes. (Center for Urban Economic Development at the University of Illinois at Chicago)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cumented immigrants have become a new source of economic growth as giant U.S. consumer companies like banks, insurers, mortgage lenders, credit-card outfits, phone carriers, and others aggressively market to over 11 million undocumented customers. (BusinessWee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cumented immigrants add 600,000 to 700,000 new consumers to the economy every year. (Pew Research Cen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of undocumented immigrants are 18-to-44-year-olds, in their prime spending years, vs. 60% of legal residents. (BusinessWeek)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Arial"/>
              </a:rPr>
              <a:t>REALITY</a:t>
            </a:r>
            <a:endParaRPr b="0" lang="en-US" sz="7200" spc="-1" strike="noStrike">
              <a:solidFill>
                <a:srgbClr val="000000"/>
              </a:solidFill>
              <a:latin typeface="Arial"/>
            </a:endParaRPr>
          </a:p>
        </p:txBody>
      </p:sp>
      <p:sp>
        <p:nvSpPr>
          <p:cNvPr id="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thousands of undocumented immigrant households earn enough to qualify for $95,000 mortgages. (National Association of Hispanic Real Estate Professiona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IN and conventional mortgages taken out by undocumented could be worth as much as $60 billion over the next five years. (National Association of Hispanic Real Estate Professionals) Undocumented immigrants now comprise fully half of all farm laborers, up from 12% in 1990. (US Department of Labor)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3T20:55:55Z</dcterms:created>
  <dc:creator>John</dc:creator>
  <dc:description/>
  <dc:language>en-US</dc:language>
  <cp:lastModifiedBy>User</cp:lastModifiedBy>
  <dcterms:modified xsi:type="dcterms:W3CDTF">2008-03-19T21:30:51Z</dcterms:modified>
  <cp:revision>20</cp:revision>
  <dc:subject/>
  <dc:title>American Diversity and Its Impact on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29220709</vt:r8>
  </property>
  <property fmtid="{D5CDD505-2E9C-101B-9397-08002B2CF9AE}" pid="3" name="_AuthorEmail">
    <vt:lpwstr>jkibler@thecenterweb.org</vt:lpwstr>
  </property>
  <property fmtid="{D5CDD505-2E9C-101B-9397-08002B2CF9AE}" pid="4" name="_AuthorEmailDisplayName">
    <vt:lpwstr>John Kibler</vt:lpwstr>
  </property>
  <property fmtid="{D5CDD505-2E9C-101B-9397-08002B2CF9AE}" pid="5" name="_EmailSubject">
    <vt:lpwstr>Powerpoints</vt:lpwstr>
  </property>
</Properties>
</file>